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5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6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7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1B2AD-892F-4DA0-A72E-DD8A08E597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8B492-65B0-4B84-BCA6-C0479A7E87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83676-6E4A-458F-86B9-1A83B4951F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F14F9-BD0D-46D7-BB02-EC7C632A92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ACD2F-9084-4368-B951-1E8C345738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75C1-7ACC-4713-867F-BA69D7681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E142-96C5-461A-A100-176730803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A6B8-29AD-4FC4-9A69-D11A782FD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8720-73B9-42AB-9863-EFE0859CD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D60555-11FC-498A-83FD-A2EDDA46B6C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616CA5-172A-4DA5-80E4-004B9ECF1DE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91F554-7516-4736-B444-BADF6E1C39E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7A648D-AA30-4FD3-A4FF-485FEF3BA5F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5AA3EB-0193-48BF-A444-12160755D42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7924EF-8A80-4078-8A40-16B9DCC41D1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F71E4F-C0C5-407B-82A9-AD7EC9A0E5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7D37-851F-4B76-8B5C-CF9B61777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679A4F-6675-4637-88AC-5C7FF0CB0F7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077135-A5F3-4FFC-BEB2-086062E5105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CC5DCA-2D9F-4241-A174-1E6E565F654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54AB83-59E8-4B9E-BB7A-4B8F3FF7B61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FF6B7C-39D9-48D0-A9E5-2061DE6B3A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3A47-8542-4F4E-8436-F44F4FAA9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1D9E-B132-4516-B5F3-4D60C3790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54FA-9757-4BF4-9DCA-7BDA3A4F9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A09D-899D-4918-BEE9-0CA0FF00D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ACC9-5CFC-4DD3-AFA5-7FF711195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D866-BFBC-422A-B58D-E704E8E52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D81C-7C51-467E-9B24-888746F32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9C1EB-4F04-4779-BFA2-FF7097AA3B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4305AEA8-32BA-4235-94FD-61C1BB6E790B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5BB79558-8A62-4088-9C91-F944620C323E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32FAE-B77B-435B-A325-98A59A3E4B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440" y="2421000"/>
            <a:ext cx="914112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Rapid Response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General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8280" y="1844640"/>
            <a:ext cx="82170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describes the composition and role of functional, technical multi-disciplinary teams of experts (Rapid Response Teams) that should be deployed in case of emergenc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341360"/>
            <a:ext cx="814716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importance of having fully operational Rapid Response Teams (RRTs) able to act immediately once a suspicious case is re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composition and terms of reference of the R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the activities  of the R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7646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RT is a group of experienced experts that are on stand-by and can reach any part of the country within 24 hours. Their actions will help to contain/stop an outbreak early on. They will survey the first case(s), provide health care in a central facility, engage with the community and carry out infection, prevention and control measures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Composition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24000" y="1236240"/>
            <a:ext cx="40320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psychosocial support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data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media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ontent Placeholder 2"/>
          <p:cNvSpPr/>
          <p:nvPr/>
        </p:nvSpPr>
        <p:spPr>
          <a:xfrm>
            <a:off x="4356000" y="1236600"/>
            <a:ext cx="4537080" cy="32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Sub-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techn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worker, psychiatric n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data cle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local media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ontent Placeholder 2"/>
          <p:cNvSpPr/>
          <p:nvPr/>
        </p:nvSpPr>
        <p:spPr>
          <a:xfrm>
            <a:off x="611280" y="5157720"/>
            <a:ext cx="8208720" cy="8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The number of subnational teams depends on the level of risk,</a:t>
            </a:r>
            <a:br>
              <a:rPr sz="2000"/>
            </a:b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human resource availability and geographic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et up one at National level and at least one at subn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medical staff on WHO-AFRO module applied in Liberia, including mock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Mapping of health facilities and identify potential ETC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Community volunteers and Epis in subnational RRT (24h hotl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Financial support from E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imulation exerci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1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50920" y="1052640"/>
            <a:ext cx="85183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2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"/>
          <p:cNvSpPr/>
          <p:nvPr/>
        </p:nvSpPr>
        <p:spPr>
          <a:xfrm>
            <a:off x="457200" y="1052640"/>
            <a:ext cx="8534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 appropriate strategies and control measures including risk communications activ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detailed investigation repo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ibute to the final evaluation of the outbreak respon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e rumors, reported outbreaks, and other public health emer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rdinate rapid response actions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s and other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te the implementation of the propo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measures including capacity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3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64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5400" spc="-1" strike="noStrike">
                <a:solidFill>
                  <a:srgbClr val="0000ff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3:27:53Z</dcterms:modified>
  <cp:revision>145</cp:revision>
  <dc:subject/>
  <dc:title>DPC Training and Technical Update</dc:title>
</cp:coreProperties>
</file>